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C27-294D-47AE-B08B-9C84BC96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651-DCEF-40D5-80D6-EA8CAC6A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7FE-255A-44D6-BD6F-7BAE9077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1D7-289D-49CD-AD20-DB4E3C73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AFA0-451C-490F-9C4C-258A4C60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AE13-46E7-4FCD-8E43-83F48A2E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272D-E4D8-470F-A213-9DB1033B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2343-F962-4E94-AFA8-7B098F75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37B6-4A52-4024-84D7-1CF9EF71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1FD9-3C94-495E-BA2D-4844F97F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01FD-880F-4395-B675-3BB7D914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E33-2126-4931-AA27-46143CD6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40DE-A93B-4FB3-95B5-3BBEA453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50CF-5156-4B97-9340-A760FBB0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22B-E271-4931-9773-A09EEEF9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53C0-A6FD-484D-A924-F4B5B4C6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E6A5-5D95-4660-B704-78C5D885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B8E-1C8A-45D1-A2BD-D9ED028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23F-D6A4-4593-8597-457CC588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82A-F55C-4DD2-ABB8-12E73422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335-1ED5-4351-B363-6F8AD6D2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B84-BF5D-4B9E-ABD7-02A65ECA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285-EE47-4F23-A8F6-61D9F40D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D3D-5465-466F-ADAB-A53381AD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7EEA-7343-4A57-B18D-7093810C0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0FA8-D8AD-43A0-BB13-B63BD4D9D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rst Aid For Eye Inju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3657600"/>
            <a:ext cx="216396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irst Aid for Eye Injuri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eign object in the eye can cause pain and irr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rub i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moving the Object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object is under the upper lid, pull the lid over a cotton sw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lush eye with clean water or salin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moving the Object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object Is under the lower lid, pull the lid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f you can’t remove the object…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 the eye with a loose, dry, clean bandage, and seek medical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05320" y="3200400"/>
            <a:ext cx="1806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wear eye protection when working with power tools or heavy equi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so can save you a lot of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07Z</dcterms:created>
  <dc:creator>Kraybill Campus LMS</dc:creator>
  <dc:description/>
  <dc:language>en-US</dc:language>
  <cp:lastModifiedBy>Kraybill Campus LMS</cp:lastModifiedBy>
  <dcterms:modified xsi:type="dcterms:W3CDTF">2011-05-23T12:53:16Z</dcterms:modified>
  <cp:revision>14</cp:revision>
  <dc:subject/>
  <dc:title>-[</dc:title>
</cp:coreProperties>
</file>